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E894-0051-4222-AF58-777EEEDB5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D336-A714-4C1E-81F5-455302FF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13BB-A141-4FDA-A637-5B9D30372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C93B-B0AB-4838-9D1B-8806BC85C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482E-80F5-4CFD-8567-B2428A6B8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F1E7-E3C3-4AD7-987F-555746F1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82B6-65D0-4EC3-AF9E-5A4D1A84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1302-2658-43F8-9A9C-384E9CCA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D9B3-E5E8-426B-B464-87E643A5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D601-F659-45A6-84CB-F14A60C6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8423-411F-481C-9C37-4BC27332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2D46-DFB0-4F6E-84BC-7851A26B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8B1E-0267-4744-BCB9-E4C31141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9BB0-A832-4B3F-B9AA-0B6C366A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EE01-FF43-4457-A02E-6F019D29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EF37-2EF2-471A-A5DE-5A1BD99E7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3693-92A9-488A-987F-99E890744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9713-79BA-4023-AF60-CB1F66D6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848C-1BE1-436C-A621-6CB378D6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AFBF-FF4E-4EE7-84CB-1B51E049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2C63-EDD4-431D-9120-93A44D82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C357-5B1A-441D-B8D6-829E545A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FF59-A060-4B95-8A9F-5D481004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002D-9F3D-4541-BF6D-03CBCEBC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10/7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footer&gt;</a:t>
            </a: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Triag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8386-2B49-4C1A-B251-E86F2A9B701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10/7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footer&gt;</a:t>
            </a: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Triag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94AF-F4A3-4330-BA4D-D8E372A0F41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77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TRIAGE SPA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3611"/>
                </a:solidFill>
                <a:latin typeface="Perpetua"/>
              </a:rPr>
              <a:t>Becky Halcik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5720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3611"/>
                </a:solidFill>
                <a:latin typeface="Perpetua"/>
              </a:rPr>
              <a:t>Kapil Raj Nair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5720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3611"/>
                </a:solidFill>
                <a:latin typeface="Perpetua"/>
              </a:rPr>
              <a:t>Brandon Thompso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lcik, Nair, &amp; Thompson-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7097-100E-41D5-B3A6-3E09D6AFC64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Franklin Gothic Book"/>
              </a:rPr>
              <a:t>PROBLEM DEFINIT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The triage space is not functionally designed to efficiently meet the needs of acuity adaptability, patient volume, clinician responsibility, and maintain regulatory requirements.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6320" y="1295280"/>
            <a:ext cx="8991360" cy="152280"/>
            <a:chOff x="76320" y="1295280"/>
            <a:chExt cx="8991360" cy="152280"/>
          </a:xfrm>
        </p:grpSpPr>
        <p:sp>
          <p:nvSpPr>
            <p:cNvPr id="96" name=""/>
            <p:cNvSpPr/>
            <p:nvPr/>
          </p:nvSpPr>
          <p:spPr>
            <a:xfrm>
              <a:off x="76320" y="1371600"/>
              <a:ext cx="8991360" cy="0"/>
            </a:xfrm>
            <a:prstGeom prst="line">
              <a:avLst/>
            </a:prstGeom>
            <a:ln w="9540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6320" y="1295280"/>
              <a:ext cx="8991360" cy="0"/>
            </a:xfrm>
            <a:prstGeom prst="line">
              <a:avLst/>
            </a:prstGeom>
            <a:ln w="47520">
              <a:solidFill>
                <a:srgbClr val="e6b1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320" y="1447560"/>
              <a:ext cx="8991360" cy="0"/>
            </a:xfrm>
            <a:prstGeom prst="line">
              <a:avLst/>
            </a:prstGeom>
            <a:ln w="47520">
              <a:solidFill>
                <a:srgbClr val="918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alcik, Nair, &amp; Thompson-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2274-EB9B-49DA-99AE-7178A201BF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DESIGN CONSIDERATIONS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ize of ED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Needed Equipment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Patient Volume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Family Accommodation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Communication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76560" y="14479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HIPAA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kill level of “triager”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Adaptability of layout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ound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6320" y="1295280"/>
            <a:ext cx="8991360" cy="152280"/>
            <a:chOff x="76320" y="1295280"/>
            <a:chExt cx="8991360" cy="152280"/>
          </a:xfrm>
        </p:grpSpPr>
        <p:sp>
          <p:nvSpPr>
            <p:cNvPr id="103" name=""/>
            <p:cNvSpPr/>
            <p:nvPr/>
          </p:nvSpPr>
          <p:spPr>
            <a:xfrm>
              <a:off x="76320" y="1371600"/>
              <a:ext cx="8991360" cy="0"/>
            </a:xfrm>
            <a:prstGeom prst="line">
              <a:avLst/>
            </a:prstGeom>
            <a:ln w="9540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320" y="1295280"/>
              <a:ext cx="8991360" cy="0"/>
            </a:xfrm>
            <a:prstGeom prst="line">
              <a:avLst/>
            </a:prstGeom>
            <a:ln w="47520">
              <a:solidFill>
                <a:srgbClr val="e6b1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6320" y="1447560"/>
              <a:ext cx="8991360" cy="0"/>
            </a:xfrm>
            <a:prstGeom prst="line">
              <a:avLst/>
            </a:prstGeom>
            <a:ln w="47520">
              <a:solidFill>
                <a:srgbClr val="918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alcik, Nair, &amp; Thompson--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91EB-B3FC-40DA-A8C4-18A250C1F8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BASIC CONCEP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76320" y="1295280"/>
            <a:ext cx="8991360" cy="152280"/>
            <a:chOff x="76320" y="1295280"/>
            <a:chExt cx="8991360" cy="152280"/>
          </a:xfrm>
        </p:grpSpPr>
        <p:sp>
          <p:nvSpPr>
            <p:cNvPr id="108" name=""/>
            <p:cNvSpPr/>
            <p:nvPr/>
          </p:nvSpPr>
          <p:spPr>
            <a:xfrm>
              <a:off x="76320" y="1371600"/>
              <a:ext cx="8991360" cy="0"/>
            </a:xfrm>
            <a:prstGeom prst="line">
              <a:avLst/>
            </a:prstGeom>
            <a:ln w="9540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320" y="1295280"/>
              <a:ext cx="8991360" cy="0"/>
            </a:xfrm>
            <a:prstGeom prst="line">
              <a:avLst/>
            </a:prstGeom>
            <a:ln w="47520">
              <a:solidFill>
                <a:srgbClr val="e6b1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320" y="1447560"/>
              <a:ext cx="8991360" cy="0"/>
            </a:xfrm>
            <a:prstGeom prst="line">
              <a:avLst/>
            </a:prstGeom>
            <a:ln w="47520">
              <a:solidFill>
                <a:srgbClr val="918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 rot="16200000">
            <a:off x="-190080" y="3543480"/>
            <a:ext cx="1752480" cy="7617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3733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-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2057400"/>
            <a:ext cx="1905120" cy="167652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4419720"/>
            <a:ext cx="2362320" cy="1600200"/>
          </a:xfrm>
          <a:prstGeom prst="octagon">
            <a:avLst>
              <a:gd name="adj" fmla="val 29287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es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1905120"/>
            <a:ext cx="2102040" cy="1955520"/>
          </a:xfrm>
          <a:prstGeom prst="plus">
            <a:avLst>
              <a:gd name="adj" fmla="val 25000"/>
            </a:avLst>
          </a:prstGeom>
          <a:solidFill>
            <a:srgbClr val="cc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rot="10800000">
            <a:off x="1143000" y="4723920"/>
            <a:ext cx="2666880" cy="762120"/>
          </a:xfrm>
          <a:custGeom>
            <a:avLst/>
            <a:gdLst>
              <a:gd name="textAreaLeft" fmla="*/ 0 w 2666880"/>
              <a:gd name="textAreaRight" fmla="*/ 2666880 w 266688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6a9a9">
              <a:alpha val="7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2590920"/>
            <a:ext cx="1295640" cy="533160"/>
          </a:xfrm>
          <a:prstGeom prst="rightArrow">
            <a:avLst>
              <a:gd name="adj1" fmla="val 50000"/>
              <a:gd name="adj2" fmla="val 60753"/>
            </a:avLst>
          </a:prstGeom>
          <a:solidFill>
            <a:srgbClr val="96a9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2438280"/>
            <a:ext cx="1905120" cy="533520"/>
          </a:xfrm>
          <a:prstGeom prst="rightArrow">
            <a:avLst>
              <a:gd name="adj1" fmla="val 50000"/>
              <a:gd name="adj2" fmla="val 89271"/>
            </a:avLst>
          </a:prstGeom>
          <a:solidFill>
            <a:srgbClr val="96a9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4495680" y="3200040"/>
            <a:ext cx="1143000" cy="9907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6a9a9">
              <a:alpha val="7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 rot="16200000">
            <a:off x="6819480" y="4000320"/>
            <a:ext cx="1295280" cy="1523880"/>
          </a:xfrm>
          <a:custGeom>
            <a:avLst/>
            <a:gdLst>
              <a:gd name="textAreaLeft" fmla="*/ 0 w 1295280"/>
              <a:gd name="textAreaRight" fmla="*/ 1295640 w 1295280"/>
              <a:gd name="textAreaTop" fmla="*/ -360 h 1523880"/>
              <a:gd name="textAreaBottom" fmla="*/ 15238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6a9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alcik, Nair, &amp; Thompson-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47D5-CDF4-4C4D-96E5-51C523A3A4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LAYOU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6320" y="1295280"/>
            <a:ext cx="8991360" cy="152280"/>
            <a:chOff x="76320" y="1295280"/>
            <a:chExt cx="8991360" cy="152280"/>
          </a:xfrm>
        </p:grpSpPr>
        <p:sp>
          <p:nvSpPr>
            <p:cNvPr id="123" name=""/>
            <p:cNvSpPr/>
            <p:nvPr/>
          </p:nvSpPr>
          <p:spPr>
            <a:xfrm>
              <a:off x="76320" y="1371600"/>
              <a:ext cx="8991360" cy="0"/>
            </a:xfrm>
            <a:prstGeom prst="line">
              <a:avLst/>
            </a:prstGeom>
            <a:ln w="9540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320" y="1295280"/>
              <a:ext cx="8991360" cy="0"/>
            </a:xfrm>
            <a:prstGeom prst="line">
              <a:avLst/>
            </a:prstGeom>
            <a:ln w="47520">
              <a:solidFill>
                <a:srgbClr val="e6b1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320" y="1447560"/>
              <a:ext cx="8991360" cy="0"/>
            </a:xfrm>
            <a:prstGeom prst="line">
              <a:avLst/>
            </a:prstGeom>
            <a:ln w="47520">
              <a:solidFill>
                <a:srgbClr val="918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Triage Area"/>
          <p:cNvPicPr/>
          <p:nvPr/>
        </p:nvPicPr>
        <p:blipFill>
          <a:blip r:embed="rId2"/>
          <a:stretch/>
        </p:blipFill>
        <p:spPr>
          <a:xfrm>
            <a:off x="685800" y="1523880"/>
            <a:ext cx="3276720" cy="2133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257800" y="1552680"/>
            <a:ext cx="3276720" cy="2373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334120" y="4038480"/>
            <a:ext cx="3352680" cy="2229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914400" y="3733920"/>
            <a:ext cx="2590920" cy="23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alcik, Nair, &amp; Thompson-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5DB4-B3B8-4AF5-9122-C48EA0A2AF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LAYOU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6320" y="1295280"/>
            <a:ext cx="8991360" cy="152280"/>
            <a:chOff x="76320" y="1295280"/>
            <a:chExt cx="8991360" cy="152280"/>
          </a:xfrm>
        </p:grpSpPr>
        <p:sp>
          <p:nvSpPr>
            <p:cNvPr id="132" name=""/>
            <p:cNvSpPr/>
            <p:nvPr/>
          </p:nvSpPr>
          <p:spPr>
            <a:xfrm>
              <a:off x="76320" y="1371600"/>
              <a:ext cx="8991360" cy="0"/>
            </a:xfrm>
            <a:prstGeom prst="line">
              <a:avLst/>
            </a:prstGeom>
            <a:ln w="9540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320" y="1295280"/>
              <a:ext cx="8991360" cy="0"/>
            </a:xfrm>
            <a:prstGeom prst="line">
              <a:avLst/>
            </a:prstGeom>
            <a:ln w="47520">
              <a:solidFill>
                <a:srgbClr val="e6b1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320" y="1447560"/>
              <a:ext cx="8991360" cy="0"/>
            </a:xfrm>
            <a:prstGeom prst="line">
              <a:avLst/>
            </a:prstGeom>
            <a:ln w="47520">
              <a:solidFill>
                <a:srgbClr val="918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800600" y="3340080"/>
            <a:ext cx="3533760" cy="3014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3733920" cy="361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alcik, Nair, &amp; Thompson-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3DA5-E323-49D3-A33E-6EEF9566E5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ETRIC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ost to Square Fee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ime needed for different acuity level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Percent Usage of Spac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riage Space /ED Spac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76560" y="14479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Greet to triage tim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riage to room tim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omparing procedure adaptability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Materials Needed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76320" y="1295280"/>
            <a:ext cx="8991360" cy="152280"/>
            <a:chOff x="76320" y="1295280"/>
            <a:chExt cx="8991360" cy="152280"/>
          </a:xfrm>
        </p:grpSpPr>
        <p:sp>
          <p:nvSpPr>
            <p:cNvPr id="141" name=""/>
            <p:cNvSpPr/>
            <p:nvPr/>
          </p:nvSpPr>
          <p:spPr>
            <a:xfrm>
              <a:off x="76320" y="1371600"/>
              <a:ext cx="8991360" cy="0"/>
            </a:xfrm>
            <a:prstGeom prst="line">
              <a:avLst/>
            </a:prstGeom>
            <a:ln w="9540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20" y="1295280"/>
              <a:ext cx="8991360" cy="0"/>
            </a:xfrm>
            <a:prstGeom prst="line">
              <a:avLst/>
            </a:prstGeom>
            <a:ln w="47520">
              <a:solidFill>
                <a:srgbClr val="e6b1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6320" y="1447560"/>
              <a:ext cx="8991360" cy="0"/>
            </a:xfrm>
            <a:prstGeom prst="line">
              <a:avLst/>
            </a:prstGeom>
            <a:ln w="47520">
              <a:solidFill>
                <a:srgbClr val="918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alcik, Nair, &amp; Thompson--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687E-BD54-4130-AA3D-621E72B5B5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EXT STEP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76320" y="1295280"/>
            <a:ext cx="8991360" cy="152280"/>
            <a:chOff x="76320" y="1295280"/>
            <a:chExt cx="8991360" cy="152280"/>
          </a:xfrm>
        </p:grpSpPr>
        <p:sp>
          <p:nvSpPr>
            <p:cNvPr id="146" name=""/>
            <p:cNvSpPr/>
            <p:nvPr/>
          </p:nvSpPr>
          <p:spPr>
            <a:xfrm>
              <a:off x="76320" y="1371600"/>
              <a:ext cx="8991360" cy="0"/>
            </a:xfrm>
            <a:prstGeom prst="line">
              <a:avLst/>
            </a:prstGeom>
            <a:ln w="9540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320" y="1295280"/>
              <a:ext cx="8991360" cy="0"/>
            </a:xfrm>
            <a:prstGeom prst="line">
              <a:avLst/>
            </a:prstGeom>
            <a:ln w="47520">
              <a:solidFill>
                <a:srgbClr val="e6b1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320" y="1447560"/>
              <a:ext cx="8991360" cy="0"/>
            </a:xfrm>
            <a:prstGeom prst="line">
              <a:avLst/>
            </a:prstGeom>
            <a:ln w="47520">
              <a:solidFill>
                <a:srgbClr val="918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152280" y="1600200"/>
            <a:ext cx="34290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ase 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9b2d1f"/>
                </a:solidFill>
                <a:latin typeface="Arial"/>
              </a:rPr>
              <a:t>Problem Iden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ase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d34817"/>
                </a:solidFill>
                <a:latin typeface="Arial"/>
              </a:rPr>
              <a:t>Project For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ase 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96a9a9"/>
                </a:solidFill>
                <a:latin typeface="Arial"/>
              </a:rPr>
              <a:t>Project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ase 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51af6e"/>
                </a:solidFill>
                <a:latin typeface="Arial"/>
              </a:rPr>
              <a:t>Project Refinement</a:t>
            </a:r>
            <a:r>
              <a:rPr b="1" lang="en-US" sz="1600" spc="-1" strike="noStrike">
                <a:solidFill>
                  <a:srgbClr val="51af6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470480" y="2955960"/>
            <a:ext cx="1792080" cy="868320"/>
          </a:xfrm>
          <a:prstGeom prst="line">
            <a:avLst/>
          </a:prstGeom>
          <a:ln w="7632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603520" y="3860280"/>
            <a:ext cx="1792440" cy="868680"/>
          </a:xfrm>
          <a:prstGeom prst="line">
            <a:avLst/>
          </a:prstGeom>
          <a:ln w="7632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762120" y="4749840"/>
            <a:ext cx="1792080" cy="868320"/>
          </a:xfrm>
          <a:prstGeom prst="line">
            <a:avLst/>
          </a:prstGeom>
          <a:ln w="7632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324480" y="2057400"/>
            <a:ext cx="1792440" cy="868320"/>
          </a:xfrm>
          <a:prstGeom prst="line">
            <a:avLst/>
          </a:prstGeom>
          <a:ln w="76320">
            <a:solidFill>
              <a:srgbClr val="51af6e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20021400">
            <a:off x="549720" y="472392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b2d1f"/>
                </a:solidFill>
                <a:latin typeface="Arial"/>
              </a:rPr>
              <a:t>Research &amp;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20021400">
            <a:off x="2519640" y="3803400"/>
            <a:ext cx="155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34817"/>
                </a:solidFill>
                <a:latin typeface="Arial"/>
              </a:rPr>
              <a:t>Concept Design &amp;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602080" y="5462640"/>
            <a:ext cx="2985840" cy="266760"/>
          </a:xfrm>
          <a:noFill/>
          <a:ln w="93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ency Room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02080" y="5146560"/>
            <a:ext cx="3062160" cy="266760"/>
          </a:xfrm>
          <a:noFill/>
          <a:ln w="93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views – Triage Clinici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5734080"/>
            <a:ext cx="3011400" cy="266760"/>
          </a:xfrm>
          <a:noFill/>
          <a:ln w="93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arch / Article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0021400">
            <a:off x="4318200" y="307296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a9a9"/>
                </a:solidFill>
                <a:latin typeface="Arial"/>
              </a:rPr>
              <a:t>Design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4343400"/>
            <a:ext cx="3071880" cy="266760"/>
          </a:xfr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ing &amp;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43560" y="4700520"/>
            <a:ext cx="3035160" cy="266760"/>
          </a:xfr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cept Sketches / Mock-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75360" y="3227400"/>
            <a:ext cx="3602160" cy="266760"/>
          </a:xfr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ign Feed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78600" y="3803760"/>
            <a:ext cx="3327480" cy="266760"/>
          </a:xfr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ign Comple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20021400">
            <a:off x="6172560" y="224784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a9a9"/>
                </a:solidFill>
                <a:latin typeface="Arial"/>
              </a:rPr>
              <a:t>Design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72120" y="3506760"/>
            <a:ext cx="3443400" cy="266760"/>
          </a:xfr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99240" y="2463840"/>
            <a:ext cx="1544760" cy="266760"/>
          </a:xfrm>
          <a:noFill/>
          <a:ln w="9360">
            <a:solidFill>
              <a:srgbClr val="51af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96360" y="2743200"/>
            <a:ext cx="1547640" cy="266760"/>
          </a:xfrm>
          <a:noFill/>
          <a:ln w="9360">
            <a:solidFill>
              <a:srgbClr val="51af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in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Close-up of a sign in a doctor’s office for the triage area. photo"/>
          <p:cNvPicPr/>
          <p:nvPr/>
        </p:nvPicPr>
        <p:blipFill>
          <a:blip r:embed="rId2"/>
          <a:srcRect l="20004" t="28957" r="3997" b="22933"/>
          <a:stretch/>
        </p:blipFill>
        <p:spPr>
          <a:xfrm>
            <a:off x="6629400" y="228600"/>
            <a:ext cx="2286000" cy="96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alcik, Nair, &amp; Thompson-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DE6A-4655-42A8-9A2B-0EB4194B2D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Thank You and Ques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rcRect l="14168" t="12077" r="16205" b="14476"/>
          <a:stretch/>
        </p:blipFill>
        <p:spPr>
          <a:xfrm>
            <a:off x="2637000" y="3276720"/>
            <a:ext cx="3581280" cy="281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lcik, Nair, &amp; Thompson-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258C-63A8-4F9C-8701-01F87A6AAF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5:35:29Z</dcterms:created>
  <dc:creator>Kapil</dc:creator>
  <dc:description/>
  <dc:language>en-US</dc:language>
  <cp:lastModifiedBy>Thompson</cp:lastModifiedBy>
  <dcterms:modified xsi:type="dcterms:W3CDTF">2008-10-09T16:48:40Z</dcterms:modified>
  <cp:revision>29</cp:revision>
  <dc:subject/>
  <dc:title>Slide 1</dc:title>
</cp:coreProperties>
</file>